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2.jpeg" ContentType="image/jpeg"/>
  <Override PartName="/ppt/media/image3.jpeg" ContentType="image/jpeg"/>
  <Override PartName="/ppt/media/image5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1.jpeg" ContentType="image/jpeg"/>
  <Override PartName="/ppt/media/image4.gif" ContentType="image/gif"/>
  <Override PartName="/ppt/media/image7.png" ContentType="image/png"/>
  <Override PartName="/ppt/media/image11.wmf" ContentType="image/x-wmf"/>
  <Override PartName="/ppt/media/image12.png" ContentType="image/png"/>
  <Override PartName="/ppt/media/image13.png" ContentType="image/png"/>
  <Override PartName="/ppt/media/image8.wmf" ContentType="image/x-wmf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3469-F9CF-4786-9083-B2AFD54B8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1DCA-ECEA-4563-A81B-737FD5CC7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523CEC-637E-4B72-847C-31FCD2C01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614518-09F5-416A-8FF6-31D083549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C57FF1-770F-4052-8CA7-C5015ED28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85D07F-521F-4DF8-8218-2EF4E1825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CE6F84-D3E2-4BE7-B059-8871B3EFA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63D5D6-E4D8-4D8F-8871-156B99E15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282AE5-133C-4B9C-A0D0-38F3659E9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0B2BDD-D4CB-4996-8950-A400FE477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6EE225-D17C-4A05-97C9-31C07846C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314120-8D94-4DD1-A650-82BE394B2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498E-20E3-48EF-848A-2FA81AD68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C000B0-30BA-44FA-B5E2-5CB0D190D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FB42C5-8649-42AC-B0C5-9B5CE1A37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A7C1D8-02EA-4729-91EE-3DE20A151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F9DAB3-BD84-4BBD-A5E1-31C767EF2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591439-B523-43BE-B909-C2BBF3D15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FB79B9-2688-4EB9-A200-17FA3408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FFE04B-B274-4ED6-8BFD-B3F95208D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EC2A6C-E048-4C91-8F29-1298152A5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81E815-192C-4612-861B-FF325CA0D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CD56C4-2429-4D52-A9C5-86BF5F2E7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0D2D-D30C-4AE1-9CEA-ED8F265BF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A2DC36-735A-4C5C-B591-9D1FD82F6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0DA6E0-007D-4873-8B40-FEAB3109C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1339D1-1835-41B9-B7A0-A1CEF7BD9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02D303-24B4-4A34-8C62-5A1545784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137B55-9EB5-417A-8EDD-3D67DB485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9A02BB-8FAD-447C-8B5F-784D8423C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5E928C-83F1-4B32-9B1C-6ECC05739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1E407D-C731-4158-9DD3-152F41D5F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8FB585-40DA-440A-AD00-5E926524A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E7C016-9700-400D-ACC9-6811FE09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8378C-CB1E-4A9F-B871-B2718C954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5B8FE9-7D81-499F-B74F-363844A23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44893C-53BA-452D-AEBA-F0CE07535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8A12E9-3CEF-4ACD-90FD-63F614DA4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F80E1B-A0EF-474D-AC62-ACD2C51BF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61DD5F-5859-4820-A470-63D5F899B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86F474-C96E-45EB-BACA-8B1FD2220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71E75F-33B6-4D0B-BCD3-432A12F4D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B8723B-28CF-40A9-86B0-A2FB67631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FDCF72-21DA-4A14-9802-3FAFE8660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053B96-F6B0-4B26-A304-8BEF6A0F0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E354D-F58B-4955-9515-924B53456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4A4BAF-B1DC-4E9C-9BE3-575B673F7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0E8A7C-AEF4-49F4-8E9C-BAA10AF01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4F269C-9631-4A1D-AE72-BC42811AD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B7849A-1890-474D-8089-1FB5B8706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B5BB24-1D13-4FC4-BCBD-8775ACB17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CEF358-603B-4585-9488-A63356EA6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E132CB-25A7-4DFA-AD58-AE1CE806F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41B492-BEF1-4D3A-9722-BC806476B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5F1998-F87E-4FB5-B800-E00A9C20A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DE56F4-40ED-42B0-867C-16EE76DA1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E8360-F4A8-4E8A-AACB-A9C7DAF55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7DE553-DEFE-4201-9CA7-074B02A48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33C870-F39C-4788-9445-AB4D2E92E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F02C73-BAF9-487F-912B-295EA51D5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75797E-8CF8-4919-B345-E7092349F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8F10D6-0B84-411A-9875-1125F76C5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537B2A-F274-426F-AC59-08A95CC89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1226B8-4F74-4AC3-8709-644833051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4B55E-2B22-4408-95E8-4FAA9A97E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E3861-4FE8-4DE2-9831-AF0189E9D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9F50F-5866-46C0-AE92-021DB9D93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5A950-E062-4152-A945-D4D214635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88B6-3A49-4646-87CD-9E14488C3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2C0ED-F970-4C5A-9650-A2B2320EC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5917F-5CCE-4678-AE0E-D5580027C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96B1A-BC4E-401B-BC09-443D08992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CB7A1-7B63-400B-9123-CF97619A1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5C58A-E935-4431-9B68-F390C9385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09EEA-CFE0-4612-BEBE-9D468660C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E2747-0232-4162-8F23-ECE691297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21F3F-308D-41E5-9A66-DB58F0FA1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C33FE-FD83-431E-837A-1EDC19F3C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D5FF0-829E-43BF-8B07-0347D0930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90F6-677C-431A-9D0C-4F67AB4BB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6D648-D54F-4EC5-B71B-49FDDCADC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2593C-0DC2-4511-A52F-46A7194FA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88217-0900-4275-8682-D0D9CD925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C6367-2EA1-4DAB-B9C9-D722DD13D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9757F-7A18-49D1-81EE-965F77581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110CC-DEC7-48B6-9C2B-8F2AE0E98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9525A-78E2-4552-AF36-AB3EF8338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81794-2787-43F1-B70A-740D148F4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45B30-0F8F-4985-8CF0-ED803F13A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F35F0-3C2B-4CD8-8148-80E12B2B1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DA0F-5249-4461-866E-B6FCC6476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B7EF9-1F35-419B-A42F-D51D39E5A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4B160-7DBA-48A0-86CE-7A4CA96D6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62CA6-A2F0-46DD-8553-FB1D5DBDA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145B9-C272-4DC9-8B73-1F6AC855B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98586-98AF-4975-9895-65733A00E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95543-560E-4727-9F82-1FDC7993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C11F0-A6CF-4471-8115-953511AE7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40A1A-CAAD-44DE-A97E-0824C740D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8B4D8-3584-44AC-9A69-440626792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85EB93-212A-438C-BC3A-93094B546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C293-FCEC-4E7F-A31B-B34F371C4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A1B75E-B518-4258-943D-F741895CC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C27F2C-CDE8-4809-A6D6-A71191E4B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105E99-8B21-4B81-A733-7E4F47E6D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A3E91A-9BA1-42AA-BBF9-7F402266B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810F0-81A0-4198-AA97-0A28A3B65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040ABE-EF22-4CFA-A50E-53BCB097B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9565CF-FF1C-44D0-AC18-464321000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85BF1A-01FA-4174-883B-DD4FC2739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4AB58C-B57C-40B2-A118-0EFA32B4B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F87D0E-883B-4F12-8537-FADBAC308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6768-A917-4A23-A7C4-9338E282A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FCCCC3-5D38-40E2-9603-6362EC847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A7C6AC-35F3-45A5-829F-E8BD74BCE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6E42B3-152F-47B3-803A-F93602B13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1EE7FF-E65E-4776-B0D5-F89F9ABA7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CAD43F-69C2-4BAF-BAEA-511D3EB30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31593B-73BD-4A4E-89FA-CD5928C89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2E2C42-0344-49D7-9422-CE27635EE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8C73D9-E840-4712-B262-14F8BAD8F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606D3F-5B8E-426D-806F-6C00B18A4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FB323F-BC77-47D0-8D30-CF6303B69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E8A2-059D-4562-B1F2-ACFB10C4B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522BD5-A53A-48AF-83C0-56A8FF0F8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DDC8AF-EDD3-4A4B-B84F-5734EA88A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32F4EA-6548-479E-8612-9FE94A7F2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01A73A-298D-459F-807F-7BF8FED4C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7A1F1B-EC84-4A04-BAE9-263DD5CE9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5C4425-D29C-47C1-95B8-8AE3B3EF8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8D5761-69BA-4E39-BE92-FB4ED957A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AD17A5-0CDD-48FF-B8AD-AF4E96593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BB348E-8DF1-4521-A1A6-5EED8F7E2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E5FED7-1B2F-46CB-B64A-C729E0954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3691-2F0E-473F-9A27-D8B761707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D2F22F-945E-4D3C-8611-EF06A848F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21478A-32BA-49BA-B3A5-B9D21B12A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0C0E9A-3790-4B5C-87E4-4945730C7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AF7C3C-BA64-4500-A363-3EC1BFB0E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527839-7016-456D-8DF0-45549B1EB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F0D427-6B3C-404A-9EEE-86707F728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C61F15-5A1D-47B2-866A-F56B91976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94BAA0-6CF9-4C7A-BE7B-726B01B7C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8479ED-F99E-46CE-A450-0E539F63B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C6CEEA-4366-4B38-A21D-09A209924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34C6-53D0-4887-8C95-ED6FADA34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5842D2-FCEE-4F3F-9910-D6E03F88E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9423A7-D30D-4A65-96B6-36DE420AC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18233D-97F0-41B3-83E1-F6312E351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13EDBF-34AD-4AE1-8AAB-93D34F4DA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F41F9A-C12B-41D6-A4BC-FB8A29FD7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E9E7E3-C931-4CD1-9DB2-711545F87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07DAD4-0C32-431F-9CEB-35D774BCD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BD8EB7-3CEA-4F8E-BC9C-7D1B50F9B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BB3025-C521-4D0D-842E-C72F74296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681771-E5BE-44F1-B537-A178BA2CD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3B2F1-93F1-4C79-8CE7-8E49C21ACAB7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lika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Slika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386" name="Slika 2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A42B5-F167-440B-A0EA-77E3696099D3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Slika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429" name="Slika 2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8A4FF-DB5D-4448-9C23-FC5A5F5FE173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Slika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472" name="Slika 2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560E5-FDC5-4886-B3DC-8A785DBB2902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Slika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515" name="Slika 2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13FC6-12D7-455E-BE70-C9B5EA2E1668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33D6C-D9FE-44FE-A0BA-9801E863A141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Slika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Slika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85" name="Slika 2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51648-CC2A-4D1F-A352-82C1FAEA1571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Slika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128" name="Slika 2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26ED2-6E1D-438E-B7C4-AEECC43DE614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Slika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171" name="Slika 2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028A0-4D13-4193-86A6-A5684F1BD92F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Slika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214" name="Slika 2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E3DFE-CA5C-434F-B2EE-AE35E86F4D35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Slika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257" name="Slika 2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909EB-FA35-4919-87B3-0CB66E409774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Slika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300" name="Slika 7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4EAD9-4C57-4002-B31C-6FDB70182CED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Slika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343" name="Slika 2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D3E7C-3095-4E96-B892-60CAF7ED0F31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12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1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2.jpeg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2.jpeg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6.png"/><Relationship Id="rId3" Type="http://schemas.openxmlformats.org/officeDocument/2006/relationships/image" Target="../media/image4.gif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4.gif"/><Relationship Id="rId7" Type="http://schemas.openxmlformats.org/officeDocument/2006/relationships/image" Target="../media/image2.jpe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4.gif"/><Relationship Id="rId6" Type="http://schemas.openxmlformats.org/officeDocument/2006/relationships/image" Target="../media/image2.jpeg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4.gif"/><Relationship Id="rId6" Type="http://schemas.openxmlformats.org/officeDocument/2006/relationships/image" Target="../media/image2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4.gif"/><Relationship Id="rId5" Type="http://schemas.openxmlformats.org/officeDocument/2006/relationships/image" Target="../media/image2.jpeg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4.gif"/><Relationship Id="rId4" Type="http://schemas.openxmlformats.org/officeDocument/2006/relationships/image" Target="../media/image2.jpeg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hr-HR" sz="4000" spc="-1" strike="noStrike">
                <a:solidFill>
                  <a:srgbClr val="000000"/>
                </a:solidFill>
                <a:latin typeface="Calibri"/>
              </a:rPr>
              <a:t>Prepoznajemo međudjelovanja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8" name="Slika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Sila je vektorska veličina, jer uz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iznos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, ima i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hvatište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ravac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djelovanja te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usmjerenost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ili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orijentaciju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2" name="Picture 2" descr=""/>
          <p:cNvPicPr/>
          <p:nvPr/>
        </p:nvPicPr>
        <p:blipFill>
          <a:blip r:embed="rId2"/>
          <a:stretch/>
        </p:blipFill>
        <p:spPr>
          <a:xfrm>
            <a:off x="2195640" y="3110040"/>
            <a:ext cx="5184720" cy="3030480"/>
          </a:xfrm>
          <a:prstGeom prst="rect">
            <a:avLst/>
          </a:prstGeom>
          <a:ln w="0">
            <a:noFill/>
          </a:ln>
        </p:spPr>
      </p:pic>
      <p:pic>
        <p:nvPicPr>
          <p:cNvPr id="583" name="Slika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Znak za iznos sile je F, a vektor kojim silu prikazujemo označavamo 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5" name="Picture 4" descr=""/>
          <p:cNvPicPr/>
          <p:nvPr/>
        </p:nvPicPr>
        <p:blipFill>
          <a:blip r:embed="rId3"/>
          <a:stretch/>
        </p:blipFill>
        <p:spPr>
          <a:xfrm>
            <a:off x="4427640" y="2708280"/>
            <a:ext cx="360360" cy="595440"/>
          </a:xfrm>
          <a:prstGeom prst="rect">
            <a:avLst/>
          </a:prstGeom>
          <a:ln w="0">
            <a:noFill/>
          </a:ln>
        </p:spPr>
      </p:pic>
      <p:pic>
        <p:nvPicPr>
          <p:cNvPr id="586" name="Slika 2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 txBox="1"/>
          <p:nvPr/>
        </p:nvSpPr>
        <p:spPr>
          <a:xfrm>
            <a:off x="179280" y="347760"/>
            <a:ext cx="8856720" cy="61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Razmislit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1. Navedite sile koje imaju privlačno i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odbojno djelovanj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2. Je li sila teža gravitacijska sila? Objasni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3.  Kako biste nekom opisali što je sil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4. Jesu li duljina, masa i gustoća vektori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Objasnite. Raspravite o tome  s učiteljem /učiteljic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8" name="Slika 3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589" name="Slika 1" descr=""/>
          <p:cNvPicPr/>
          <p:nvPr/>
        </p:nvPicPr>
        <p:blipFill>
          <a:blip r:embed="rId5"/>
          <a:stretch/>
        </p:blipFill>
        <p:spPr>
          <a:xfrm>
            <a:off x="0" y="633240"/>
            <a:ext cx="1074600" cy="11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178920" y="980640"/>
            <a:ext cx="58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Međudjelovanje tijela  opisujemo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silama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Vrijedi ukoliko prvo tijelo međudjeluje s drugim, tada i drugo tijelo međudjeluje s prvi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Tada kažemo da tijelo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djeluje silom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na drugo tijel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0" name="Slika 2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561" name="Slika 1" descr=""/>
          <p:cNvPicPr/>
          <p:nvPr/>
        </p:nvPicPr>
        <p:blipFill>
          <a:blip r:embed="rId5"/>
          <a:stretch/>
        </p:blipFill>
        <p:spPr>
          <a:xfrm>
            <a:off x="5549760" y="942840"/>
            <a:ext cx="327024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 txBox="1"/>
          <p:nvPr/>
        </p:nvSpPr>
        <p:spPr>
          <a:xfrm>
            <a:off x="456840" y="126828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r-HR" sz="3600" spc="-1" strike="noStrike">
                <a:solidFill>
                  <a:srgbClr val="000000"/>
                </a:solidFill>
                <a:latin typeface="Calibri"/>
              </a:rPr>
              <a:t>Pokus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: Gurnite kuglicu prema rubu sto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oja su tijela u međudjelovanju kada kuglica napusti stol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uglica pada na tlo jer je Zemlja privlači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silom težom.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Sila teža je po svojoj prirodi gravitacijska sila. Gravitacijska sila je to veća što su tijela veće m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3" name="Slika 2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okus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: Knjiga klizi po sto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Čime se očituje ovo međudjelovanj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oja su tijela u međudjelovanju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Što zaustavlja knjigu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Bi li se knjiga zaustavila  da je klizila po ledu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njigu zaustavlja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sila trenja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(međudjelovanje stola i knjig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Slika 2" descr=""/>
          <p:cNvPicPr/>
          <p:nvPr/>
        </p:nvPicPr>
        <p:blipFill>
          <a:blip r:embed="rId7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566" name="Slika 1" descr=""/>
          <p:cNvPicPr/>
          <p:nvPr/>
        </p:nvPicPr>
        <p:blipFill>
          <a:blip r:embed="rId8"/>
          <a:stretch/>
        </p:blipFill>
        <p:spPr>
          <a:xfrm>
            <a:off x="5580000" y="981000"/>
            <a:ext cx="310680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 txBox="1"/>
          <p:nvPr/>
        </p:nvSpPr>
        <p:spPr>
          <a:xfrm>
            <a:off x="32400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r-HR" sz="3300" spc="-1" strike="noStrike">
                <a:solidFill>
                  <a:srgbClr val="000000"/>
                </a:solidFill>
                <a:latin typeface="Calibri"/>
              </a:rPr>
              <a:t>Pokus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: Istežemo rukom elastičnu oprugu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Koja tijela pritom međudjeluju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Djeluje li opruga na ruku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Što  se dogodilo s elastičnom oprugom kada ste      ju prestali rastezati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Opruga na ruku djeluje </a:t>
            </a:r>
            <a:r>
              <a:rPr b="1" lang="hr-HR" sz="3000" spc="-1" strike="noStrike">
                <a:solidFill>
                  <a:srgbClr val="000000"/>
                </a:solidFill>
                <a:latin typeface="Calibri"/>
              </a:rPr>
              <a:t>elastičnom silom, 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a oprugu ste rastegnuli</a:t>
            </a:r>
            <a:r>
              <a:rPr b="1" lang="hr-HR" sz="3000" spc="-1" strike="noStrike">
                <a:solidFill>
                  <a:srgbClr val="000000"/>
                </a:solidFill>
                <a:latin typeface="Calibri"/>
              </a:rPr>
              <a:t> mišićnom silom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8" name="Slika 2" descr=""/>
          <p:cNvPicPr/>
          <p:nvPr/>
        </p:nvPicPr>
        <p:blipFill>
          <a:blip r:embed="rId6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569" name="Slika 1" descr=""/>
          <p:cNvPicPr/>
          <p:nvPr/>
        </p:nvPicPr>
        <p:blipFill>
          <a:blip r:embed="rId7"/>
          <a:stretch/>
        </p:blipFill>
        <p:spPr>
          <a:xfrm>
            <a:off x="6372360" y="1484280"/>
            <a:ext cx="20494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 txBox="1"/>
          <p:nvPr/>
        </p:nvSpPr>
        <p:spPr>
          <a:xfrm>
            <a:off x="456840" y="1164960"/>
            <a:ext cx="8218440" cy="48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okus: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Magnet i pribadač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Što se dogodilo kada smo magnet približili pribadačam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oja tijela međudjeluju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ako magnet djeluje na druge predmete od željeza i čelik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Slika 2" descr=""/>
          <p:cNvPicPr/>
          <p:nvPr/>
        </p:nvPicPr>
        <p:blipFill>
          <a:blip r:embed="rId6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572" name="Slika 1" descr=""/>
          <p:cNvPicPr/>
          <p:nvPr/>
        </p:nvPicPr>
        <p:blipFill>
          <a:blip r:embed="rId7"/>
          <a:stretch/>
        </p:blipFill>
        <p:spPr>
          <a:xfrm>
            <a:off x="6659640" y="765000"/>
            <a:ext cx="217656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okus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: Kolica s magnet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Možete li pokretati kolica  a da se magneti na dodiruj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Što se događa s kolicim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magneti međudjeluju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magnetskom silom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, mogu se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rivlačiti ili odbija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4" name="Slika 2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575" name="Slika 1" descr=""/>
          <p:cNvPicPr/>
          <p:nvPr/>
        </p:nvPicPr>
        <p:blipFill>
          <a:blip r:embed="rId6"/>
          <a:stretch/>
        </p:blipFill>
        <p:spPr>
          <a:xfrm>
            <a:off x="5292720" y="716040"/>
            <a:ext cx="339408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okus: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dva balona na ni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Zbog čega se baloni međusobno odbijaju ili privlač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To je djelovanje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električne sile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oja može biti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rivlačna ili odboj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7" name="Slika 2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578" name="Slika 1" descr=""/>
          <p:cNvPicPr/>
          <p:nvPr/>
        </p:nvPicPr>
        <p:blipFill>
          <a:blip r:embed="rId5"/>
          <a:stretch/>
        </p:blipFill>
        <p:spPr>
          <a:xfrm>
            <a:off x="5651640" y="790560"/>
            <a:ext cx="260496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 txBox="1"/>
          <p:nvPr/>
        </p:nvSpPr>
        <p:spPr>
          <a:xfrm>
            <a:off x="108000" y="1052280"/>
            <a:ext cx="885672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r-HR" sz="3000" spc="-1" strike="noStrike">
                <a:solidFill>
                  <a:srgbClr val="000000"/>
                </a:solidFill>
                <a:latin typeface="Calibri"/>
              </a:rPr>
              <a:t>Sila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 je fizička veličina kojom opisujemo djelovanje jednog tijela na drugo tijelo. Posljedica djelovanja sile jest promjena stanja gibanja ili oblika tijela ili obojeg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Međudjelovanje </a:t>
            </a:r>
            <a:r>
              <a:rPr b="1" lang="hr-HR" sz="3000" spc="-1" strike="noStrike">
                <a:solidFill>
                  <a:srgbClr val="000000"/>
                </a:solidFill>
                <a:latin typeface="Calibri"/>
              </a:rPr>
              <a:t>udaljenih tijela 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opisuju: sila teža, električna sila, magnetska sil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Sile koje se pojavljuju pri </a:t>
            </a:r>
            <a:r>
              <a:rPr b="1" lang="hr-HR" sz="3000" spc="-1" strike="noStrike">
                <a:solidFill>
                  <a:srgbClr val="000000"/>
                </a:solidFill>
                <a:latin typeface="Calibri"/>
              </a:rPr>
              <a:t>neposrednom dodiru tijela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 često imenujemo prema učinku : mišićna sila, elastična sila, sila trenja i potisna sil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0" name="Slika 2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23T17:35:44Z</dcterms:created>
  <dc:creator>Mladen Vidović</dc:creator>
  <dc:description/>
  <dc:language>en-US</dc:language>
  <cp:lastModifiedBy>MArina Dumančić</cp:lastModifiedBy>
  <dcterms:modified xsi:type="dcterms:W3CDTF">2019-09-14T13:11:26Z</dcterms:modified>
  <cp:revision>24</cp:revision>
  <dc:subject/>
  <dc:title>Slažemo sile</dc:title>
</cp:coreProperties>
</file>